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830-E81F-48E6-B50C-651EE251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56BD-57FC-478E-8420-269E47C8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66F7-83CE-41C3-9185-D0C7665F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4C04-95F9-4186-A7CF-0252542A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06CD-4E43-4E54-89E5-D6216260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AE84-F9C5-49D2-B2A2-5633BC1C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C226-D408-4B99-A9DE-E9B0C760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228C-7D90-48CC-9F60-5FD0F78F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2E5F-E4DF-4527-96F2-E552BB1D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4F86-1436-4FB5-91E3-EA31B9BE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1131-1EBC-4099-A6D2-67E6C3EF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89CE-EF8E-4B77-87D7-38096BFF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81EA-96F8-4540-A96B-019EE090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96C0-C622-4373-BCC7-3E1C9124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8C1C-E653-4067-9C43-69EA09CC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7551-4D1E-4337-8540-D4337B3B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7E32-ED38-4559-8DC3-59A9F223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8B2-25E8-4386-9861-808D1B43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9B73-A093-406C-970D-40F9EC0D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CB51-8950-4EBD-BEEF-397ABD03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4435-FC22-4845-B1AB-036370B0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DF45-E539-49CD-951B-2A0A78F3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5284-C3E6-4A4C-B0A5-FC4B8834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34A5-2246-471F-808A-4B3A8D15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5AF1-5FB0-4E3B-A149-A2A8C85C43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4CB2-A786-4709-A5CC-4640F97865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15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3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55640" y="981000"/>
            <a:ext cx="7129440" cy="4606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69660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Болезнь Ньюкасла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                                                                                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484360" y="0"/>
            <a:ext cx="3024360" cy="1989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067440" y="0"/>
            <a:ext cx="3076560" cy="3095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      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Факторы передач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50920" y="76500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68360" y="4797360"/>
            <a:ext cx="3095640" cy="1933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5435640" y="4437000"/>
            <a:ext cx="340848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179280" y="2205000"/>
            <a:ext cx="2772000" cy="2160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3276720" y="2205000"/>
            <a:ext cx="29080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067360" y="189000"/>
            <a:ext cx="4076640" cy="32954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аражение происходи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лиментарн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эрогенн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046920" y="3645000"/>
            <a:ext cx="3097080" cy="2449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692360" y="3933720"/>
            <a:ext cx="345600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линические призна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5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формы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велогенную (острую)- угнетение, слабость,растр-во дыхания, паралич лап, смертность до 90 %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067280" y="1197000"/>
            <a:ext cx="47718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072200" y="-1411560"/>
            <a:ext cx="1030320" cy="43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3816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мезогенную (подострую) -  поражение органов дыхания, и нервной с-мы, кашель,удушье погибает от 10 до 50 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187960" y="260280"/>
            <a:ext cx="3414600" cy="3745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924360" y="4076640"/>
            <a:ext cx="4762440" cy="25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51400" y="-3619080"/>
            <a:ext cx="47124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3160" y="620640"/>
            <a:ext cx="32288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лентогенную (хроническую)-проявляющуюся незначительными поражениями кишечника, органов размножения ее вызывают лентогенные штамм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95640" y="115920"/>
            <a:ext cx="4751640" cy="5904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995640" y="3860640"/>
            <a:ext cx="504036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071840" y="-320760"/>
            <a:ext cx="1614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3160" y="549360"/>
            <a:ext cx="37321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асимптоматическую (атипичную) - болезнь протекает без клинических признаков, заболевание определяют серологичес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0" y="620640"/>
            <a:ext cx="417672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720108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          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ат.материа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908000" y="1197000"/>
            <a:ext cx="3095640" cy="237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2448000" cy="1695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580000" y="3789360"/>
            <a:ext cx="2448000" cy="2160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611280" y="4149720"/>
            <a:ext cx="2665440" cy="1584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3851280" y="4221000"/>
            <a:ext cx="151272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Лаб.диагност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417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иопроба на куринных эмбрио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- мелкоузелковые пора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- очаговые пора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32360" y="2421000"/>
            <a:ext cx="369720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826920" y="2924280"/>
            <a:ext cx="3024360" cy="2879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7280" y="476280"/>
            <a:ext cx="554544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915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иопроба на цыплят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3311640" cy="2532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4356000" y="3357720"/>
            <a:ext cx="352908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535640" y="404640"/>
            <a:ext cx="4608360" cy="35290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етоды РИФ, РГА, РСК, РЗГА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84360" y="1125360"/>
            <a:ext cx="3240000" cy="2303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971640" y="3716280"/>
            <a:ext cx="40338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дрозд.jpg"/>
          <p:cNvPicPr/>
          <p:nvPr/>
        </p:nvPicPr>
        <p:blipFill>
          <a:blip r:embed="rId2"/>
          <a:stretch/>
        </p:blipFill>
        <p:spPr>
          <a:xfrm>
            <a:off x="755640" y="3284640"/>
            <a:ext cx="4753080" cy="3228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203640" y="260280"/>
            <a:ext cx="5616360" cy="3024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Болезнь Ньюкасла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 псевдочума, атипичная чума, азиатская чума …….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00"/>
                </a:solidFill>
                <a:latin typeface="Tahoma"/>
              </a:rPr>
              <a:t>высококонтагиозная болезнь птиц из отряда куриных, проявляющаяся поражением органов дыхания, желудочно-кишечного тракта и центральной нервной систем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Профилактик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3888000" cy="4535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900000" y="2421000"/>
            <a:ext cx="33847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3313080" cy="2924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508720" y="189000"/>
            <a:ext cx="3456000" cy="2017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Меры борьбы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6659640" y="2924280"/>
            <a:ext cx="2484360" cy="1657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6443640" y="4824360"/>
            <a:ext cx="2408400" cy="2033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3635280" y="2065320"/>
            <a:ext cx="2880000" cy="4792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250920" y="3068640"/>
            <a:ext cx="2305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64000" y="476280"/>
            <a:ext cx="5580000" cy="61275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. Историческая справк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2591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ыла впервые зарегистрирована на острове Ява Краневельдом в 1926 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0920" y="3933720"/>
            <a:ext cx="3241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775280" cy="5040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Возбудитель болезни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РНК-содержащий вирус из рода Paramixovirus семейства Paramixovmda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                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орфология               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3520" y="1341360"/>
            <a:ext cx="3084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ет овальную форму, содержит РНК и устроен весьма сложно, размеры вирионов 120-300 нм. Капсомеры расположены по спиральному типу укладки имеет сферическую фор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995640" y="1916280"/>
            <a:ext cx="453708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064360" cy="6097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о степени патогенности штаммов вируса БН различают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логенные -- высокопатогенны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зогенные -- средней степени патогенност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нтогенные -- низкой степени патогенности, или авирулентны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569080" cy="6048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63280" y="380520"/>
            <a:ext cx="3600360" cy="3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                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Устойчивость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7921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Н в диапазоне 2,0...10,0; в высушенных органах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17...18°С -2 года; в птичниках зимой -140 дней, летом - 7 дней. В гниющих трупах инактивируется через 3 нед. В замороженных тушках кур не погибает свыше 800 дней. При кипячении вирус в тушках птиц погибает лишь через 40...60 мин,нестоек к растворам формалина 1...2%-ные, хлорной извести 3%-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16000" y="260280"/>
            <a:ext cx="2448000" cy="237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364000" y="333360"/>
            <a:ext cx="3372120" cy="3305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Эпизоотолог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Рисунок 4" descr="дрозд.jpg"/>
          <p:cNvPicPr/>
          <p:nvPr/>
        </p:nvPicPr>
        <p:blipFill>
          <a:blip r:embed="rId4"/>
          <a:stretch/>
        </p:blipFill>
        <p:spPr>
          <a:xfrm>
            <a:off x="5940360" y="4076640"/>
            <a:ext cx="2971800" cy="2436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403280" y="4626000"/>
            <a:ext cx="324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900000" y="2349360"/>
            <a:ext cx="3745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0640" y="380880"/>
            <a:ext cx="73692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 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37432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точник инфекци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211640" y="765000"/>
            <a:ext cx="4537080" cy="2565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11280" y="2781360"/>
            <a:ext cx="3529080" cy="3600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364000" y="3357720"/>
            <a:ext cx="2686320" cy="2047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2:22:42Z</dcterms:created>
  <dc:creator>Студент</dc:creator>
  <dc:description/>
  <dc:language>en-US</dc:language>
  <cp:lastModifiedBy>Бухгалтер</cp:lastModifiedBy>
  <dcterms:modified xsi:type="dcterms:W3CDTF">2010-04-13T09:39:33Z</dcterms:modified>
  <cp:revision>11</cp:revision>
  <dc:subject/>
  <dc:title>Болезнь Ньюкасла                                                                                 (ньюкаслская болезнь) </dc:title>
</cp:coreProperties>
</file>